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7D1-B90B-4CF6-BDD9-45122DBF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055-8B95-4E39-9A95-D816CB5F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AA5-496D-465E-9069-D65D05C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130-FF87-404F-BA0B-A49286EC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5EB1-C63F-4848-9B92-17A3BFCC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A8C-AB5A-4A4D-8B5D-4A172E1D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1422-3559-4DA9-8496-3F71D8C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9C5-3E4F-4F82-906E-E71EB0D7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E89-9456-4039-AF86-1CB7221C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FD9-A37C-4119-94FF-8487026E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E4A-C682-4B1F-825E-BE74785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D3F-0B34-446D-8902-35F9AE57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8B07-45B6-4145-B355-8AA746D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D9C-1261-43B2-93A8-063A8E39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4192-679D-404F-AED7-E76AF992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9470-0629-4EEF-AB26-C6C8BEA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E09-F376-4352-BF10-9546714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71A-DE4E-4A24-A726-A0E6E3F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A46-897A-4AF0-BF58-3A705A1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FD0-3154-4FA7-8F37-02EB5141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B87-9D83-41D1-8F08-1A4A2939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632-2324-4AF9-A075-54859CD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72C-054D-4807-AA62-91A54A1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A15-2469-4FC2-8FAC-ACF5358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284-12FC-46CE-BF9B-CDA31CE0E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F6C-7F65-49C1-AD73-F638A5294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Early Middle Ag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Dark in these ages, which was problematic as many Europeans were afraid of the dark…or maybe that is not why this time period was so diffic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es one manage to rule such a large empir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 divides empire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un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giving land to people called “cou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ow many counties are there in Ct.?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s -&gt; land in exchange for which they were expected to serve the Lord (Feuda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ere does one find so much money to run an empir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axes and trade of course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yal est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&gt;Money!!!-&gt;runs govt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US Government get money???, how much do you think it spends?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. Balazs loves Charlemagne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 loved learn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ors-&gt; Courts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steries and cathedrals opened schools to train monks and pri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STERIESINCREASEDLIBRARIESANDCREATEDILLUMINATEDMANUSCRI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rolingian minis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51244170"/>
          <p:cNvPicPr/>
          <p:nvPr/>
        </p:nvPicPr>
        <p:blipFill>
          <a:blip r:embed="rId1"/>
          <a:stretch/>
        </p:blipFill>
        <p:spPr>
          <a:xfrm>
            <a:off x="6784920" y="5003640"/>
            <a:ext cx="2359080" cy="185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BK%20initial%20jpeg"/>
          <p:cNvPicPr/>
          <p:nvPr/>
        </p:nvPicPr>
        <p:blipFill>
          <a:blip r:embed="rId2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49" name="Line 8"/>
          <p:cNvSpPr/>
          <p:nvPr/>
        </p:nvSpPr>
        <p:spPr>
          <a:xfrm>
            <a:off x="5334120" y="46483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lemagne and the Po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 declared Holy Roman Emper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y the Po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LY ROMAN EMPEROR (H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he really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n’t a church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man Empire was in the 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pe, not the Senate or the People made him Empe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etheless -&gt; he’s now the H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mpire do you think resented his new title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’s heirs ruled weak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, Louis 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&gt; poor leader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is (Charlemagne’s son) -&gt; three sons… fought until-&g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eaty of Verd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sentially created France and Germany- later led to wars about where the borders of each country should be—LIKE WWI and WWII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&gt; weaknes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roling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arol=Charles) 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&gt;Vulnerability -&gt; VIKINGS AND MAGYARS- TRIBES FROM NORTH AND EAST INVADE EU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t Charlemagne Map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KISH_08_188"/>
          <p:cNvPicPr/>
          <p:nvPr/>
        </p:nvPicPr>
        <p:blipFill>
          <a:blip r:embed="rId1"/>
          <a:stretch/>
        </p:blipFill>
        <p:spPr>
          <a:xfrm>
            <a:off x="2590920" y="1143000"/>
            <a:ext cx="3987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was Charlemagne’s Impac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R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R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 and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,France-&gt; 4 important leade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 -&gt; mos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Gaul now France????- Barbarians in France -&gt; “The Frank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ovis – late 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Centu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es Franks spreads powe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ianizes Gau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ood means of succ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rovingia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escendants of Clovis) – fought over who would tak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ings turn around though…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ore than 100 yrs later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s Mart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harles the Hamm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s power of Fra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-&gt; Battle of Tours (732), driving back Islam into Sp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, Pepin the Short- &gt;dynast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martel"/>
          <p:cNvPicPr/>
          <p:nvPr/>
        </p:nvPicPr>
        <p:blipFill>
          <a:blip r:embed="rId1"/>
          <a:stretch/>
        </p:blipFill>
        <p:spPr>
          <a:xfrm>
            <a:off x="2057400" y="4094280"/>
            <a:ext cx="47242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epin the Short 8C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in agreed to fight the Lombards to help the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urn, Pepin named king by -&gt;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ne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g has political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rit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pin expands Frankish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p_nobile_sala3_05"/>
          <p:cNvPicPr/>
          <p:nvPr/>
        </p:nvPicPr>
        <p:blipFill>
          <a:blip r:embed="rId1"/>
          <a:stretch/>
        </p:blipFill>
        <p:spPr>
          <a:xfrm>
            <a:off x="0" y="4416480"/>
            <a:ext cx="2666880" cy="2441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epin"/>
          <p:cNvPicPr/>
          <p:nvPr/>
        </p:nvPicPr>
        <p:blipFill>
          <a:blip r:embed="rId2"/>
          <a:stretch/>
        </p:blipFill>
        <p:spPr>
          <a:xfrm>
            <a:off x="6316560" y="4343400"/>
            <a:ext cx="24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epin the short has a gigantic son…Charles the Great…who has a gigantic life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s the Grea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arolus Magnu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physical, very active, very big, very intellectu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ar, the king himself commanded the armies and fought in the front line.  Every spring, Charlemagne called together all the great landowners of the kingdom, both nobles and bisho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50px-Charlemagne-by-Durer"/>
          <p:cNvPicPr/>
          <p:nvPr/>
        </p:nvPicPr>
        <p:blipFill>
          <a:blip r:embed="rId1"/>
          <a:stretch/>
        </p:blipFill>
        <p:spPr>
          <a:xfrm>
            <a:off x="533520" y="1143000"/>
            <a:ext cx="2209680" cy="490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oronation_of_Charlemagne2"/>
          <p:cNvPicPr/>
          <p:nvPr/>
        </p:nvPicPr>
        <p:blipFill>
          <a:blip r:embed="rId2"/>
          <a:stretch/>
        </p:blipFill>
        <p:spPr>
          <a:xfrm>
            <a:off x="4343400" y="1447920"/>
            <a:ext cx="3809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 the Conqueror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te 8C to early 9C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s South &amp; E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, like his father (Who was???), protected Italy and the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Saxons and Avars- (other Barbarian Trib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ced baptisms- demanded people became Christ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ne leader – One God - One Reli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’s land surpasses the Eastern Roman Empire’s in size (which had shr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 expands Frankish la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8" descr="KISH_08_180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3:48:53Z</dcterms:created>
  <dc:creator>Darien Public Schools</dc:creator>
  <dc:description/>
  <dc:language>en-US</dc:language>
  <cp:lastModifiedBy>Local User</cp:lastModifiedBy>
  <dcterms:modified xsi:type="dcterms:W3CDTF">2013-12-03T12:18:07Z</dcterms:modified>
  <cp:revision>37</cp:revision>
  <dc:subject/>
  <dc:title>The Middle Ages…Expansion of Power</dc:title>
</cp:coreProperties>
</file>